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37A-ECB1-45AA-B10C-2951676A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3DA-9015-4372-98B1-260F1BAA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7FC9C-9350-4352-93BD-DC6B9B1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AA12-0FA2-4E5D-946B-096D0E96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F1583-9779-4B89-B69E-44DEDA8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C2A52-D145-417E-9289-78E0268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7E8F-0CD9-4A9D-90C2-90DB5EE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DD1F1-15C4-4D3B-B2CC-5DC901F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2EE84-8D68-4860-AFCB-FC3403BD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F871-5F08-473D-AFFA-7E27F21E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C6733-4F10-4B1E-8B55-1DF833AC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C7A90-164A-4CC9-8046-98857983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BBA-59D1-43FD-9B14-609AB6EE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BA979-31B7-48EC-A324-274D88C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ACC92-9256-4474-A99D-A36771C3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12245-0744-4783-9D4D-98E721E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A0D14-B814-4867-BBB3-F38FCD1B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3843A-9535-4F2C-B014-72E8A98E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A12C8-7E5F-4664-89F1-894095A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8E460-C40C-4937-A19A-3C22B6D0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2E0C2-869B-4472-9716-C8B5C93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5DBBA-97AD-4B01-993E-FB7F2AB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1613F-9DBC-40A2-A513-C5E733EB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78A-26E7-4A7A-8949-051EA40B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8980E-149B-488A-BEC3-58035AD0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6C3C7-876B-4235-A1DD-E2148E63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BDC7-7664-4E29-AC77-4333575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D221D-BD17-4852-8B58-6A1B2F1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22E1B-69E0-454E-A1F9-0A4CA127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C82F1-8907-4C34-9B39-D8333AE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8DBF-ABBB-4084-A63B-FEA730F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8D3E2-1990-440E-92F9-C669848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31784-AA13-4ADD-8F75-385EA8C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A065-BA77-4F40-B053-E0AFB67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0F3E-81C4-400A-84C5-FC65AE3B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32A9-D882-4527-8F73-F1C7181B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B6F86-059A-4CB6-B70F-7F6CC0EB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A312F-D448-4228-A7E7-606C7D00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6AF9F-F470-4F2C-9EA6-6E6D0CA5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8CEAB-0853-41B9-8C45-48F44E3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7A219-1C3C-4738-B513-CFFACCB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B3129-9E45-4446-BFC2-E0E6894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40010-E9CA-440D-880D-0B0263B3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A2037-392F-47A3-9029-25DD1CB9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CCB90-8336-4B8A-AF96-5316492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0206-BFC6-45FB-96E4-6EB8FC17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254F8-9F9F-4AD6-88AF-1138582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5F0E1-12A0-42BE-B80C-F46D9E48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AAA1C-749F-4895-A6F9-64D81EEC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8FF77-89C3-44F3-9DC8-6F09DCE7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6FD9B-FDE4-4995-925E-D7F7568E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847AB-8FE0-4BAB-9CB3-44A3D43E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95853-E310-4744-83EC-5591102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2E972-CFEF-418F-A982-99106776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1FE0A-C317-4CD9-8A00-48F156D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8A158-43C9-458E-8822-D6F50CCA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CCBA-3197-4199-B5B1-01103FB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4C2CF-A4E9-4FBC-AEA3-86D5A99A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64A75-2DAE-46A8-92CB-9DAC73B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93272-5B25-4282-9A01-1CB26F1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0C6C1-CC16-4F46-91B5-908FF366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331EC-E3B4-400A-A957-EBA8E14C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DA27D-B235-44CE-9C9B-120C7636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3E468-5A72-458B-8B26-5E1EADCF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9A475-EC40-4CE1-B0C9-E12B140D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0A9D3-E33A-458D-8E6A-B42A3037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387F4-14A6-46F9-A720-21D27209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4EEE-734E-4FE2-A3C4-83D5D97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08F4B-9E72-4334-ADA7-BBBCAE96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15E09-04AE-47C7-B0B3-F7E1C2F0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10147-9BA3-485A-800E-B69E22A4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6E07B-767F-464F-8E85-A14CD00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ECF39-F064-45EC-94A6-F8C553B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5DF83-9874-41BB-ABE6-FC75EF1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28879-29B3-4B23-8B84-8A302EE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515F6-73F5-4702-8C76-5BC8AFF4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5F30C-C2C9-4600-8BBA-3E5B3189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68543-4807-4715-A9D4-00F3AE4E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B20-C75A-4818-B4F1-D490785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1F9CC-36FC-428B-9DB0-3EBCC348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92249-92E7-4A76-A41E-B6D2EBF8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F8059-62D7-4316-8A56-2BCC42CE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FAB09-0C92-4923-B216-125127D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7867C-2673-4218-B33F-D43333B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E0DFE-12C4-4F56-A7CE-698F9436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ABD6C-67C7-4D89-B320-069C9AC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CEFF0-349F-44A9-9EC3-39DB4AC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92AB2-84DD-48A1-9A67-036FFBB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D77E1-684C-4DEA-8D1E-0EC8465F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7B38-724E-4CB6-BFF4-1319879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B63A9-70B5-48D4-B206-D889B119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D980C-AB3C-4B90-9F73-8A3987D4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F44B4-1E3C-4E4D-9197-8DB59D2C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2A3DD-E4C7-45B7-9527-05BB2A7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DD1FD-2644-4BC2-9067-28AB5B9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3CE98-7BC3-4534-801B-643A6BDD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C4328-649A-48AC-86D2-39E56F34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FDA43-7F59-43A6-8128-5BA407D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B3B6A-CCB3-4FE0-92CF-6EE02DE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7D906-56F6-413F-961B-58F12A27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B3AE-CA63-4D2B-98AC-A805095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5C05D-6E29-43CA-A5F6-30F4681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9D040-493B-4223-9314-9B32EC94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5C44A-A53D-46B8-A245-DBA6667F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E008C-6D4B-480B-A6A9-681FE1A5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50B7E-72CA-4649-991C-73B8306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BC25A-2031-4981-A4F9-5D2721B3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63A8B-30E2-4CD3-9508-7F884423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C3B93-FB49-4830-B6B4-B59066C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7AC98-89C5-4C55-A780-43258D0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2AB44-F482-4E01-8F38-C6E35E5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C3E-1836-4C3D-AE2E-DE3888FC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283E-265A-46A3-B17E-E9421287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D90F0-3A71-4E72-AB40-D085253B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FE162-0CB5-4C53-A961-D5C3828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9F5A2-6D94-4F3E-8F98-898AB924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262DE-8261-4F3F-8CB3-35EFCA4E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33FA6-ED51-404C-905F-6D29B06D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90B73-6FD0-4495-B795-C65D321E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54266-80FF-4296-9039-6887009B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A14DC-AFDD-49F1-8576-65984026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51A1F-D1C6-4EFA-B75D-FA85D2B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537FB-217F-4D57-99DC-C77FC875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122-D60C-4D38-84DB-71B9C9B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28BA2-7B04-4321-BD0E-A76EF196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29AE4-F920-4738-BD65-6D3549E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2C829-74E8-4D97-B6E4-CA9D5DB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390FF-0FC4-4BCB-84DA-37C9528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72A43-5CFC-412C-A7D3-0D4B27F1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855315-99A3-4394-AC36-F1516D27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D351B-9B58-4419-ADEA-8D55368A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15037-04EC-473C-99B3-05DFFAE3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C1072-F7C1-4EC1-8E8B-2C1C8316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606B1-9A5B-4C92-A66D-58E2BD6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D7F1-7D9C-4E9C-8542-F03375A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9CC81-A585-4AA5-9142-5B681755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A8F55-E0E4-4516-AD47-6C4BDB7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C537B-CFBE-408C-AAF1-07F9F62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E81D2-4A21-4674-A5B4-4B985F5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7ECB2-0584-479D-BE6C-416F463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1426E-D545-4D28-BB31-BB3B5AA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7A596-1534-4EA2-A0D6-DB81F487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6A446-5AD2-45FA-B139-E988DE66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B2C2A-AEB1-4105-8D7A-096CFD3A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CF5AA-CF4A-4ED8-ACC1-9F07385C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C46-A9C1-412B-9D06-571AE03E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B1144-C7DD-4DAF-B4C7-9CD24C6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919AC-773F-490D-BBB3-AC91767A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A5163-C88B-4710-A057-08FF5F7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199A4D-114B-482E-88D4-6E7887A9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D53BE-81F3-4398-B113-6A189709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B1951-CE8F-4062-A9DB-F273990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58206-B9CF-4E1A-A073-131D232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95243-F658-4EE0-B57D-80E9A64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B42D1-1799-4526-B2F5-54EFF26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CF3A2-675F-4B13-BB9D-416EDAB6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63A-F924-46C4-9225-A3F62504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C4DAF-77D6-4E8E-A25A-18026775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AAFFC-1E43-453F-8812-5874FF9C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0B100-4812-4DF8-BAF4-040DB3C9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9DD07-DAF9-4CF2-BC9F-3040267D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B8AF8-C7EB-46DE-AE47-37AE51F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3BDC2-DAF2-491C-8A5A-60CF1CCC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EF70B-A4D2-44C4-BEA4-0B29B38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4580E-AA11-4FA0-931C-FE9684C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61C58-1BED-44B4-9141-B674F53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F40CE-671B-472A-81C1-C12F023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69C5-FB03-48CB-9245-7676397B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D1C16-F665-4F9B-A53F-0C3BA19E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CD924-C683-4A2C-B287-018EBBD5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616AD-6BBA-44B0-BE9E-F938A54A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712B-B981-4780-A792-1BD5646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0ACB-C79A-4849-AB2C-FDFA7D70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C4E2-5733-446C-AF03-EC5F2D2A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8090-A4FF-4310-85C1-29610D6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30E-66ED-4918-9EE5-C4884F1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3440-0259-4885-9CEA-257C4B1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BFC2-64BD-4D46-8F79-75FB709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B838-514B-43DF-BEC9-978059F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B761-5029-4643-BE16-F9DB16CB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4B76-BAFB-4629-8C11-4CB20B64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6F53-C4EA-43BC-97B1-95E0DECF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A8FE-171D-4E41-953F-A1E2DEE1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8970-64B6-4370-BC79-26DE9B25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AED2-F1C3-46EE-B6F9-055E753A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70A9-3D36-418E-B30F-18E1222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A5A-004A-445F-82F5-AA4DB8BF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E446-0410-4F83-A388-F890D31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FF2F-D214-4341-A1F8-25B8F6D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6CC1-C98A-4B98-B32B-A6D8A0D6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B422-9777-4841-8B10-02EC02D1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38E5-BBF0-4FC5-8D02-FD016A42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D5F3-C069-44E9-A7CC-67B2074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5018-2987-433F-B242-0BEFD134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B35D-31DE-4E27-A21F-B4A59412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28F3-3E4A-4EB0-A83E-4C773BF8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2B3B-FCBF-4D4B-9ACF-FC37647E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BD7-D6FD-4A52-872D-DBD47C3B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EA8C-B39E-4871-AA2A-0D5AB45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51AF-0532-4153-8E34-A9BE6080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A301-6D16-406D-A8E2-BBA7915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30D1-A79E-4EB3-9005-02DB82FC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CA2E6-16A4-4134-B014-6EDF23F1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266F-A8B6-4CC0-8312-53C3F09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98B02-0718-46C6-B838-1082564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3BD8-8FE2-4B83-B8A2-9E6DBC4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068A-3991-4A98-9449-D6DD1D7C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6459-89D0-4BEF-8C66-E658B577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449-09AF-4E85-8B77-625711CF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3B65-021E-4898-B4EE-407A43B8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13B6-85A5-46BD-9CB9-0F6CED7B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E591-38A2-4F60-9C3A-EEA8CC6E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86667-F997-43E9-AA28-689BBCB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A73D-B9AA-494D-B373-79466A46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40B0-8322-411B-A125-A3A91A2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4E1C-1ED8-45D6-B105-A64CE6A2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6915-4C81-4BC9-90B5-27EE833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49BA-BC29-4C15-8CF5-4ABEB01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4E81-3E58-4DA1-BD89-F93FA2E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3B0-86D7-478D-AA61-FAD350C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F3C6-1278-45AA-AE5B-19F5CF4E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DCF5-DEAA-4DCF-BF7A-B4B1B31F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8420-5CCF-41B8-8363-00B75DBA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CE9D-BBC5-46B7-A082-5B145546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AC8E-7885-42DE-A95E-6961F80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7FC0-19A1-4013-9C2B-08877ABD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0D21-6118-499A-A07C-C7C3ACEC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EA2B-348B-4487-9693-D3A5728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166C-49BA-4DBF-BB23-E103CF5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9D2B-101D-4C47-9C23-B8FED23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F08-4CDD-4713-9D0E-BBED9F4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3105-C87E-4E8A-8703-CB9CC33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2698-3A74-4281-8DF3-7F0F45D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8722-F8D4-46F3-A3F7-07FB855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C9D8-985A-4FFA-8CE5-A03526D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FA9B-1380-48DF-B3ED-6AE915B6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3138-3FD4-4128-B878-8DEB6C68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97A8E-37C7-4D6C-B368-A2612EAF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80666-CA8D-446C-9689-A9BE768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3F53-FAAC-4704-A6FA-FF9FD8CD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BA4FD-B4BA-484C-8779-D3ACF8A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E95-71DB-4DF4-9BE9-40814405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9790E-C165-4C6C-AFC9-7EC92DC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68CFE-88D7-411B-BBA4-6E392CD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256FA-1C15-4AF3-B6B5-201533E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EC125-718F-42BF-B50B-18C7BE8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DEB9-3889-4CC7-B0C5-C279088A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B55C5-04E3-4BB1-B720-E0B49286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23EBA-8F0D-478F-8902-79C0D483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AFBF-9EC0-42A8-8C36-3BD1F6BC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FFF3-8F03-484E-82FF-0609B26B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CFA0D-D14E-4A3F-95EE-B71936A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9E2D-84CE-4DB4-B0C9-40AFE2D5F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5334-AB1F-4898-B396-8BA9D5421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4F42-2B36-4A60-882B-D4DEECE4A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4628-A544-49AB-A813-03F398EE5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81AC-0592-4553-A7D0-EB717436F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038-FBA5-4794-BDF1-E2C434EDA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DFF1-AAB7-48D5-9E57-89602DD02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C2D-B34A-4AFE-95FF-2627DB7416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E247-4235-4285-A88F-7A752500E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AF5-3136-477A-9D84-12F2DB8FBC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A5EB-F1A3-4CDD-8DB5-6822FBDB9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A87-519E-447F-94AA-59FFD804FF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0E6-B631-4E1E-B061-1F6A03241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0A4F-6E44-4B61-9BEC-2D8A699C41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C98C-9B36-46AC-B578-CC04BDBA2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7C14-143E-4850-897B-9F87135F7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F2CA-F985-476C-BCC3-67FAD9135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100-517C-4B79-87F8-52ED996097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D80-CC31-4F02-AF1B-122C41391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4716-EF26-40FC-AFB6-9E017840DC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945B-081E-4922-B672-B39185EAC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6DC-8522-43C6-B78A-88E42B7B5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DD9F-9DA2-4A22-8A41-77B349B1A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6F8B-9EBD-413B-9247-9262528AAC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4712-A264-4541-A6F6-C557EA393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25D-3C73-4BB2-964E-270E7FC8E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AA64-305F-4668-8A99-86C793050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420-46C8-4023-889B-D73910187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C62-0E75-4435-9B20-9A46AB499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C1E-1687-4DAA-AE11-422D0C1B9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0A73-2C83-4BF6-8B14-22BFC23502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846-1A74-4FBB-8CD1-6718A918F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2BB-47ED-483D-AB7C-BD65823AC8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6658-0869-4F27-844D-6E3E7A2F79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A715-0447-49A3-8B5D-263CA0782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5B07-5BB6-4273-8991-6D7043CCFD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0D4-D4AA-452E-8DB1-AC6959109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BB6-0E42-464C-BCBE-C8F8C467ED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310-D93D-4B7F-87CD-C62CB847A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4BD3-1539-4A17-9876-867851AC9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62040" y="2581200"/>
            <a:ext cx="6019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766800" y="260280"/>
            <a:ext cx="7610400" cy="6153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31561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826920" y="486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539640" y="5373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11280" y="593568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1486080"/>
            <a:ext cx="8562960" cy="3886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23880" y="998640"/>
            <a:ext cx="7896240" cy="523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399960" y="1390680"/>
            <a:ext cx="8344080" cy="4076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87280" y="472428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465880" y="3414600"/>
            <a:ext cx="3209760" cy="951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32097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666720" y="1643040"/>
            <a:ext cx="7810560" cy="3571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168720" cy="936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508720" y="3948120"/>
            <a:ext cx="3168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285840" y="774720"/>
            <a:ext cx="8534160" cy="553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826920" y="341460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71640" y="4019400"/>
            <a:ext cx="4249800" cy="922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332000" y="508464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1332000" y="5661000"/>
            <a:ext cx="540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262080" y="1152360"/>
            <a:ext cx="8619840" cy="4553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71640" y="294948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116000" y="403380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1547640" y="5172120"/>
            <a:ext cx="496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185760" y="803160"/>
            <a:ext cx="8562960" cy="5505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187280" y="3227400"/>
            <a:ext cx="374508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4178160"/>
            <a:ext cx="4465800" cy="922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4465800" cy="5047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55640" y="5748480"/>
            <a:ext cx="7488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37960" y="1343160"/>
            <a:ext cx="8668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3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